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1.jpeg" ContentType="image/jpeg"/>
  <Override PartName="/ppt/media/image26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761-360A-48CC-A0B4-2260F0B9063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B96-93C3-467A-A7DA-AFE84D76BFB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5E1-46AF-4662-8E89-7208336D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865-CD85-415B-9402-DECCE05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F938F-EE1B-461C-A3C1-5FFAF73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60BF4-90EF-4920-8A1B-2C89465F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DF26-A8FF-4033-A52B-7BEB5B6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F82B7-0E85-4DF2-B7EC-3D8279B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DFD0-53A7-4CEE-8E8D-276D279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F4C2D-2E5F-4829-94F7-4D3C339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33FE-26DB-443F-8183-82DCF08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F1352-46B4-4E87-8B40-782CC5B3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0CB2-BDCD-40BE-BBE0-90E48EB1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A0FD2-15AB-47C8-AED4-54BDC346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487-51FE-4C94-A986-089C2FEA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BD480-E00D-47E0-B82E-57A23D6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48E2C-D137-4FEE-91F0-E72392C6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D0FB6-8FE2-43FB-BAA3-412D51C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07C7A-D366-47D0-8E94-F6660565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A02A5-7628-406B-B356-5CE893C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68C83-236B-42E4-BF5A-4090605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F1A88-4E64-4B67-A8DB-7C04BB7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0961-8DAA-433F-B94E-2B8D2E6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60E21-95D8-422A-B7DE-9188BBA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2F0B8-4268-4A9F-B066-99911A32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FCA-F20C-484E-9AFA-758EDAB4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2365-7E4E-4835-983F-F49D8B6A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8D08-0F3A-46C0-BFBA-08597653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60C1-A94C-41EF-86DA-BE5FB854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74D3-7404-40C2-875D-1200027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8DE58-2D2F-42A6-B9B4-1082884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6EF67-0398-4EC8-ACDA-5937AC80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9D3BF-6847-4742-A3ED-8F9369EA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15BB-7D89-4FEC-BD5E-47EB49C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BFE94-5157-45ED-B08D-E026E73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8EE5E-89E1-4FE4-9FDF-53B121C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FB7-DECB-4C0B-9B35-EC977AD2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29D10-3EC0-4FD7-AF66-6A4FD932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D0854-4AB0-4789-AE4C-3B8B2961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3BA4-9B5B-404C-B948-3E3621E9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A459C-0BEE-49EA-88B2-B72D2A17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7CFA-8579-4164-9367-82FACD7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DD17E-D665-420E-B44A-66F7CD43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724F5-CCA0-40FB-A7CD-701128E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78BA1-501E-49FC-A7F8-EEE0FBAF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6CD41-7A39-47B3-94FC-6A7DA217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FD950-8CCC-4E64-B0D4-6AA5A2D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A8D2-EDC6-4939-9874-1658013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39918-E5E4-46D0-9353-28B34B9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9486-35F9-481C-977A-F978594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79FE7-1B87-4B40-8AC8-4D8A055D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2143C-950B-4AD8-8B27-1FE4BE43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8ED9A-9D91-455F-9CF6-8DCDCD38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23314-5560-4105-BA00-08F5C2C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17D5F-F125-4A23-95B7-4325487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33AD2-7784-47B8-84C8-39A86D3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5FF79-CC42-44C2-AA85-E404E2BE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99353-46AE-4260-8231-66B5FC4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E987-F825-4D1D-B521-38E22F5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DE456-0503-49E7-80D1-91888C7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84656-C646-4AF3-A91C-45F9F26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40A7D-7FD2-4C4C-BEB7-440F1B7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CCD47-C7CB-46A0-8CC6-854D5FE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96488-DB3A-41CA-B1B6-A617371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87E0F-93C3-42A4-9C43-770AB2F9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56D4D-8CC6-40FC-9F08-EF09746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A13FF-9A6F-4739-B745-A1828183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2A53E-24B3-48E8-BCB1-DDC18EC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E6C9E-F685-4916-938A-9BA8CDD5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9A3B-994B-416E-A429-FE6ED89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8F6F0-3297-4C6A-883B-72A43FC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32BD7-1918-4742-BF07-E02ABF3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7396C-8BE7-4941-BB98-0944F3F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31812-4A22-4F9F-8897-C580079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3E0EA-846A-4289-AC3F-CB5E0C8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E2789-3A28-45D4-8426-92CBEFF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92070-C2DB-4FEB-8BBA-FE246671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0A3E2-88FE-4215-A781-FA3EC698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2C66C-652F-45F2-A85E-8D8FF6AE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AC05D-CD47-4DC0-897A-9F872E05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DDC-483D-41FF-8EBE-92CC583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026E8-4B96-44A0-A76B-7B6902A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6138A-CD33-4248-9E37-2E23CEC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4278C-FB9C-4E27-BC02-779C354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48287-2017-4CE5-8BDC-0F381BCD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2D891-0B34-44B8-A1D8-B9EE61B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20AEB-491C-453A-907A-21822A7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EDC17-9E42-4D56-BD8D-EACD8DE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C206C-5C2B-4223-8C97-F11664D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88A9B-8D81-40E2-8166-9587747D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6999B-C6C8-4185-A6FD-36EC9F6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A5A5-35C0-499F-9E44-26D0DEB2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631B8-F522-4B28-8AE8-6EFC5402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459E2-D7B6-4F82-8601-3DD64C68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66009-4432-43C7-A360-95407AD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4B4B6-BCDF-4B1B-942D-09222D1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C0BC2-36F9-4BBD-A77A-063B91E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80E4D-7B95-4CEB-BEAF-F463CEE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E2D42-269B-4F79-9276-A748608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49B52-B0DA-486B-940C-81631EB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6D0E3-2462-4F8A-9B85-E662549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EDF11-99FD-4F71-BCDA-926EFFD9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538E-AFD6-435C-BC9F-D2A1C6B3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E133B-BE9C-45BA-8FF0-448995A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5EDD8-E6CC-4EDE-8363-B28D2299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B67B4-FE7E-4D77-B956-789CDA0B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93C49-9ABC-4323-BCDD-FF0E93D9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785D1-9716-421A-8447-D718959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8C55F-761A-4392-8217-3CA8A37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95DBE-C36E-4F13-9BA0-EC8AC44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A4D0D-2175-4314-815B-5079FE0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E3AEA-79D5-4260-9D5A-A2B78517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18D7E-2581-408C-9121-F5D5FFF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6EF-370A-4922-B30B-B007997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632-5597-4496-9640-AC7464D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F8177-FBF3-48FE-A58C-EB0D36AE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E6FC6-1BC9-4709-AD91-85F49C27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CBEB3-DD1B-433D-BA9B-96D698ED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BBCD7-B97E-4ACC-AE8F-209FF3E0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38A42-2F05-4E2C-A89B-15287B12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5E246-72F8-478A-B86B-50ECCB10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032B4-99D6-4F3D-8888-AEA2E2A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53B4E-0D18-4BBC-9282-EFAD61E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5E87A-EF4A-4CCE-A124-69E62E6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E5288-F334-41FB-ABC1-FD271275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A96-90FF-41D2-B70B-83381C2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E694F-45F2-40DA-AEE4-C8B795C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0D8F9-3D08-4BBB-B854-97A35FA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EF576-9337-4DBD-BB8A-D4CFEFD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48CE4-6351-45D3-B3CC-56860EB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E516A-18AF-48D2-9199-A25A798F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43DA9-28C9-431F-9FBF-68A53B81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2D8B5-7F9B-4477-963B-986B10EB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14DFD-64DC-469C-9EF5-6296B254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657C3-BA72-4BCC-8BEA-AC9909B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286CD-840F-41DC-A3B3-7B17DEA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4852-7BDA-4F8D-8813-617B436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3A698-DBAC-4C91-B875-60A6AEFA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B99F8-D40C-4D82-96FF-CD518B3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C2DA4-924D-4016-A403-FF64CF1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5903F-3E99-45E0-A986-A12A4D4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D8F9D-D4F4-47E3-9D81-18B0946F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AA9B7-0D92-438A-B202-976E4F8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69346-968B-4538-A752-A9FA495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402AE-964C-472D-8C68-3F0EA76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2F1EF-7ACE-4DE8-B11F-A92E66CB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8717-7647-4F81-A46F-1127192D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C8AD-9369-45DF-832C-41A04F19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2896-4E95-47E7-AEFD-088FF0D9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4182-BB2D-4575-896E-5152970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E79A-A629-40A6-A670-A6F27C8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6D5A-2FF3-4CCC-BB3D-CED828F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ED36-C53A-44C2-B445-B166C85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A7A-8404-4223-B0A7-4AB9D0F3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F9EF-2665-431E-8F7F-6E20ADF6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219D-DFCF-4B1D-98AC-3E2D857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E511-E96E-4A8D-9198-D25A3DD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6661-5B59-458C-A045-0818742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7FE7-BC61-49C4-8301-2C66EDB3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9F19-C033-4D73-860E-33BACC67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7A01-66EE-4551-90BE-C1656F52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C0FF-4EE9-4FE9-9043-8C213E81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CEC1-1483-448D-AA70-9C615D72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830E-612E-428A-9F2D-E0A6682A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DA1-4432-45B9-95CC-51F1B18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8A52-991D-4AD8-B4A8-E595287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582C-3A17-41EC-AA40-E382E80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8975-0C75-4231-9A14-8B45D84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76FE-3DE1-41C3-BAE2-6F2422B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2DC6-D3A6-4D5B-84C3-30AC5C4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6761-D9E7-4C20-993C-E272E93E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6442-131A-4609-B20F-626A1DB5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8BC7-F61A-48FD-906B-C0219601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5702-E7ED-4336-B09B-2743E437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D1E6-9C4A-48A2-AC3D-FAD727D9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494-CE15-4264-B50F-0288B802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6566-33D1-4B8B-BF43-A7BD060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BAE9-38F3-4DED-8A94-9878395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06B6-6BDF-4E26-BEE1-9BE5EDD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1A58-8DB5-4A07-84FB-543FDF62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FF7D-8466-4C4B-A799-79EE194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81F3-D154-4D96-B066-41E1667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92A86-CA5C-4989-9A59-CC2820B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2D22-EEEF-4078-A4F6-7B56F44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C261-70A3-4F3A-8159-774B980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8006-F8B1-4851-AB27-6E91B94B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DAB-5C72-4C7B-A08E-124E33D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70C8-6265-4A8E-B21B-4BBCD125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0668-491C-4267-A770-046CC31F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4DF9-F78A-48ED-AA6B-1D406AD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9696-D14E-45C7-B1D8-547D1982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A8B2-A9D0-4DAC-A19A-D4AFD770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FE49-BA1E-4514-B17C-54BBDCA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E6FB-6118-452F-834A-E587A76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B984A-BB63-4499-A05C-2EDD3A1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6B3A-C44E-44B6-9D65-6E30EF0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0109-08CF-4D66-B4D1-1FD922F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1CB-CDE6-48B3-8606-0FD6AC2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DB47-C615-4905-B784-75AC177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416E-79A1-4133-A9C5-DE97877E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67DF9-6BF0-444E-8CF5-BEA0E1D6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62F4-7331-460F-8EA8-647954B7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B1A7-6AC7-4F3F-BAD0-2B1108BF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7026-21C5-4E54-9A96-0AE4FA1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9376-E920-420A-8AD0-AED15E48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FFA2-A19B-49B8-85EF-71F431F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84F6-BD35-4396-93FA-C1FEC7F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6150-04FF-4F83-83A7-0D9D610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8EE-6978-4695-8F75-DDCA726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966CA-0668-4ED6-B118-34B63AA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112B1-999F-4204-AB40-B0C9378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B450-E220-4956-8C52-8EAB7D86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1A95-E09A-4269-A393-577C7D3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B6F4-7A53-421F-BD2B-9A6CCABE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A03D-9164-4CA6-81ED-B74C878F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70D3-44E9-45A9-9A1F-638E3EC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DFC8-B2D6-4A0B-A6F4-3FCBA21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5E2E-36D4-434E-B1BA-31BB7ED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9551-AFA0-479F-88D7-35553DA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685-54F8-4211-A259-433001E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8A387-513D-4B0E-B13C-2BD0C7C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BA8E-3675-4B1B-BA99-8296637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9590A-5625-4094-A4C3-68488E7E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68E4-2410-4424-9EAD-3358747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A432-D43B-4D20-B1AC-DDEA0DE0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77FA3-B1DF-4D7B-B677-C0768BB4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3E29-5C44-43B0-AB9E-77145591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C1AFB-55F2-4854-9090-9A9F7BCF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A2FB5-9552-477F-B734-03D0401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2211B-FAA9-48D1-948C-37D9C7CE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AE27-2D8D-4E70-AFBC-B0D30B84E96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21A3-210D-40F2-8C83-62522B3336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228-7EF1-4AB6-852A-DBF71741EE5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ECD-E6CF-4014-B09B-3BEFDAE3A7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E9D-D53A-42B5-881E-D4CBB54C6B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AC0C-4C02-406A-818D-45FF7E8A50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1DB1-8F69-42B7-AD2D-C3F25CF772C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E77C-CDB3-474D-827E-4DA96FE594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61D-DDF8-4AC1-9268-20B72034798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6AB-0833-4953-9268-53B6D9AF4C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24D3-458F-4BCB-9EB0-F56AFABC062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4975-5CC9-4032-AF35-6F01504B17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880-6D34-406F-BF84-0637ADD711E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11E-EA9D-4633-907A-A430379092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632F-8125-4DD9-B374-04FAFCFA024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12C-EB59-41C8-96F0-C96E816D04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B86-CDDF-491F-ACE6-FDD801F6218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89C-2CCB-420E-9CCD-AC3AEFE9A8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BC23-F9BE-4CDB-9D6E-FFA97DDEB9E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00A-9FA1-41A0-894A-6E0F2F1235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A21-F2AD-438F-9E04-DED039E2918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0BD-5F77-4316-8868-B0A923BF6D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92B1-E06D-4D13-AC96-2BFBAFCCFDE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D84-6FD5-44EB-9367-F5D4AFF809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428-CB45-4C00-BCC8-ABEFC94AD5A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84A-3AC3-43D4-B7EF-5D262AD006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07FC-C892-4A5E-96D1-02BA1BC6EE7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FD9-6A68-4C6E-92B8-8C0806F310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3E9C-AC7D-402F-AB1F-4A1DF9F98D6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2D0-6513-4220-9FB8-ED32474EAF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1F0B-65CF-45AB-805B-91EDC95535A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57A9-6B0D-4081-B7A0-0566C0D9FF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A12-EBFB-4C2D-80E2-A548CFE4563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9FF-1E26-4A40-A87E-DDF60B4EF8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E172-C8B2-4637-8FDC-45F79059223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116-EF20-451B-818E-8777556429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5C6-B996-4F55-BA36-FB4CB72D672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232-EEC1-4F69-9F93-DE16A348EF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98B-2E33-44B6-A5A9-ECBE3581E7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565-2123-4F87-BBBA-2B0E7F287E6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054-48DE-48AD-BA10-7CE58B5B7AF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9B3B-9C60-4B72-B512-5F1D83BD58C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2F3-38A6-4227-89CA-456BEBC0A48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485E-1D4A-4574-8FA7-E607CE73671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D54-C105-4D3A-B108-639F62C02AB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4D2-51E4-4247-B397-07084F2DB11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FC9A-98E4-4337-A612-87555F47537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E420-80A7-402C-A56E-5C555E01999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6B3-BF2C-4437-9E46-5282B7922EE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B3E6-F2AE-41BA-9E44-A199D05D0F0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FE24-7051-46B4-8E9C-174353336D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6555-0707-4BA9-96E8-1142FDBB900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9E3-903B-41C2-BC3C-7296E3B4776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A05-F5E7-481F-A825-64DCDE208BC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Preferred Customer</cp:lastModifiedBy>
  <cp:lastPrinted>2012-05-07T21:30:02Z</cp:lastPrinted>
  <dcterms:modified xsi:type="dcterms:W3CDTF">2014-04-20T14:44:52Z</dcterms:modified>
  <cp:revision>40</cp:revision>
  <dc:subject/>
  <dc:title>Presentación de PowerPoint</dc:title>
</cp:coreProperties>
</file>